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65CFA-204D-4BD5-B8ED-171BCB032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54EA9-227C-4E59-A390-7699B5AE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9E1CF-765B-42C3-AEFC-38B227FD1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A959A-B9FE-4B51-B837-3B4C7E7FF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5F4D-65E2-44E2-BE75-95981A4E7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7B31B-B8C7-44CF-89BB-69D2E89AF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DEB03-F637-4048-AF14-A852098AA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1C44-540B-460A-AC80-D224AD2DE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7A6A9-41EF-4A0D-B4D9-E8AAA4482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0E92D-D35B-4399-8ACD-7EB24E607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ABFB6-97C7-4A67-8461-0CF43F4B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8AAB-0034-4EFF-BC0D-608F2228A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4BD9-BAA3-4EE2-BF1A-6A3B45121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133720"/>
            <a:ext cx="7772400" cy="146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Nationality Rooms</a:t>
            </a:r>
            <a:br>
              <a:rPr sz="4800"/>
            </a:br>
            <a:r>
              <a:rPr b="1" lang="en-US" sz="3200" spc="-1" strike="noStrike">
                <a:solidFill>
                  <a:srgbClr val="000000"/>
                </a:solidFill>
                <a:latin typeface="Arial"/>
              </a:rPr>
              <a:t>Cathedral of Learning</a:t>
            </a: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lexandra Spall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ish Room</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9" descr="http://upload.wikimedia.org/wikipedia/commons/thumb/0/0d/IrishNationalityRoomPitt.jpg/300px-IrishNationalityRoomPitt.jpg"/>
          <p:cNvPicPr/>
          <p:nvPr/>
        </p:nvPicPr>
        <p:blipFill>
          <a:blip r:embed="rId1"/>
          <a:stretch/>
        </p:blipFill>
        <p:spPr>
          <a:xfrm>
            <a:off x="1523880" y="1600200"/>
            <a:ext cx="6019920" cy="451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ish Room</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rish Room is modeled after a 12</a:t>
            </a:r>
            <a:r>
              <a:rPr b="0" lang="en-US" sz="2400" spc="-1" strike="noStrike" baseline="30000">
                <a:solidFill>
                  <a:srgbClr val="000000"/>
                </a:solidFill>
                <a:latin typeface="Arial"/>
              </a:rPr>
              <a:t>th</a:t>
            </a:r>
            <a:r>
              <a:rPr b="0" lang="en-US" sz="2400" spc="-1" strike="noStrike">
                <a:solidFill>
                  <a:srgbClr val="000000"/>
                </a:solidFill>
                <a:latin typeface="Arial"/>
              </a:rPr>
              <a:t> century oratory. Monks would sit and copy the gospels of the Bible while sitting in a similar room to this one. This stone room is lavishly carved from above the doorframe and blackboard. </a:t>
            </a:r>
            <a:endParaRPr b="0" lang="en-US" sz="24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only is the ceiling decorated, but the backs of the chairs also. The handles of the chairs were carved dog heads, which would protect the monks from disturb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thuanian Room</a:t>
            </a:r>
            <a:endParaRPr b="0" lang="en-US" sz="4400" spc="-1" strike="noStrike">
              <a:solidFill>
                <a:srgbClr val="000000"/>
              </a:solidFill>
              <a:latin typeface="Arial"/>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8" descr="http://upload.wikimedia.org/wikipedia/commons/thumb/8/83/LithuanianNationalityRoomPitt.jpg/300px-LithuanianNationalityRoomPitt.jpg"/>
          <p:cNvPicPr/>
          <p:nvPr/>
        </p:nvPicPr>
        <p:blipFill>
          <a:blip r:embed="rId1"/>
          <a:stretch/>
        </p:blipFill>
        <p:spPr>
          <a:xfrm>
            <a:off x="457200" y="1600200"/>
            <a:ext cx="4038480" cy="4514760"/>
          </a:xfrm>
          <a:prstGeom prst="rect">
            <a:avLst/>
          </a:prstGeom>
          <a:ln w="0">
            <a:noFill/>
          </a:ln>
        </p:spPr>
      </p:pic>
      <p:pic>
        <p:nvPicPr>
          <p:cNvPr id="85" name="Picture 10" descr="http://media-cdn.tripadvisor.com/media/photo-s/01/21/8a/a4/lithuanian-room-mural.jpg"/>
          <p:cNvPicPr/>
          <p:nvPr/>
        </p:nvPicPr>
        <p:blipFill>
          <a:blip r:embed="rId2"/>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ithuanian Room </a:t>
            </a: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ve the blackboard names of famous Lithuanians are carved. On the back wall is a fresco called, “The Two Kings”, in which shows two kings holding the most precious belonging of Lithuania, the village. </a:t>
            </a:r>
            <a:endParaRPr b="0" lang="en-US" sz="2800" spc="-1" strike="noStrike">
              <a:solidFill>
                <a:srgbClr val="000000"/>
              </a:solidFill>
              <a:latin typeface="Arial"/>
            </a:endParaRPr>
          </a:p>
        </p:txBody>
      </p:sp>
      <p:sp>
        <p:nvSpPr>
          <p:cNvPr id="8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uania had the forbidden language. A small wooden sculpture, called the “School of Sorrows”, seen on the windowsill, shows woman secretly showing her child how to read Lithuani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lish Room</a:t>
            </a:r>
            <a:endParaRPr b="0" lang="en-US" sz="4400" spc="-1" strike="noStrike">
              <a:solidFill>
                <a:srgbClr val="000000"/>
              </a:solidFill>
              <a:latin typeface="Arial"/>
            </a:endParaRPr>
          </a:p>
        </p:txBody>
      </p:sp>
      <p:sp>
        <p:nvSpPr>
          <p:cNvPr id="90"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7" descr="http://rpmedia.ask.com/ts?u=/wikipedia/commons/thumb/e/ee/Polishroom.jpg/300px-Polishroom.jpg"/>
          <p:cNvPicPr/>
          <p:nvPr/>
        </p:nvPicPr>
        <p:blipFill>
          <a:blip r:embed="rId1"/>
          <a:stretch/>
        </p:blipFill>
        <p:spPr>
          <a:xfrm>
            <a:off x="1523880" y="1676520"/>
            <a:ext cx="60962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lish Room</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16</a:t>
            </a:r>
            <a:r>
              <a:rPr b="0" lang="en-US" sz="2800" spc="-1" strike="noStrike" baseline="30000">
                <a:solidFill>
                  <a:srgbClr val="000000"/>
                </a:solidFill>
                <a:latin typeface="Arial"/>
              </a:rPr>
              <a:t>th</a:t>
            </a:r>
            <a:r>
              <a:rPr b="0" lang="en-US" sz="2800" spc="-1" strike="noStrike">
                <a:solidFill>
                  <a:srgbClr val="000000"/>
                </a:solidFill>
                <a:latin typeface="Arial"/>
              </a:rPr>
              <a:t> century Polish Renaissance Room, which was inspired by the Wawel Castle in Cracow. This room does not only have a walnut seminar table, but also a enlarged replica of the 8-inch Jagiellonian Globe.</a:t>
            </a:r>
            <a:endParaRPr b="0" lang="en-US" sz="2800" spc="-1" strike="noStrike">
              <a:solidFill>
                <a:srgbClr val="000000"/>
              </a:solidFill>
              <a:latin typeface="Arial"/>
            </a:endParaRPr>
          </a:p>
        </p:txBody>
      </p:sp>
      <p:sp>
        <p:nvSpPr>
          <p:cNvPr id="9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om’s inspiration itself has an interesting history. The room has a mix of Polish and Italian culture. When King Sigismund married an Italian Prin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manian Room</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10" descr="http://farm5.static.flickr.com/4044/4670417855_356a6c22cd.jpg"/>
          <p:cNvPicPr/>
          <p:nvPr/>
        </p:nvPicPr>
        <p:blipFill>
          <a:blip r:embed="rId1"/>
          <a:stretch/>
        </p:blipFill>
        <p:spPr>
          <a:xfrm>
            <a:off x="1828800" y="1600200"/>
            <a:ext cx="58672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manian Roo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oom has a large religious aspect, Christian Byzantine. This is shown through the mosaic on the wall, and the iron gate which models a balcony to go out for prayer. Also the theme through this room is “don’t give up”, which represented in the room’s mak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oom has is made very nicely. Not only does this room have a pink marble floor, but it also has intricate designs on the walls. The back wall has a beautiful mosaic. There are also many carvings around the d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cottish Room </a:t>
            </a:r>
            <a:endParaRPr b="0" lang="en-US" sz="4400" spc="-1" strike="noStrike">
              <a:solidFill>
                <a:srgbClr val="000000"/>
              </a:solidFill>
              <a:latin typeface="Arial"/>
            </a:endParaRPr>
          </a:p>
        </p:txBody>
      </p:sp>
      <p:sp>
        <p:nvSpPr>
          <p:cNvPr id="10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9" descr="http://farm4.static.flickr.com/3061/3881873147_3ce1dfa1a5.jpg"/>
          <p:cNvPicPr/>
          <p:nvPr/>
        </p:nvPicPr>
        <p:blipFill>
          <a:blip r:embed="rId1"/>
          <a:stretch/>
        </p:blipFill>
        <p:spPr>
          <a:xfrm>
            <a:off x="457200" y="1600200"/>
            <a:ext cx="4038480" cy="4495680"/>
          </a:xfrm>
          <a:prstGeom prst="rect">
            <a:avLst/>
          </a:prstGeom>
          <a:ln w="0">
            <a:noFill/>
          </a:ln>
        </p:spPr>
      </p:pic>
      <p:pic>
        <p:nvPicPr>
          <p:cNvPr id="105" name="Picture 13" descr="http://farm4.static.flickr.com/3426/3266595608_3f73280214.jpg"/>
          <p:cNvPicPr/>
          <p:nvPr/>
        </p:nvPicPr>
        <p:blipFill>
          <a:blip r:embed="rId2"/>
          <a:stretch/>
        </p:blipFill>
        <p:spPr>
          <a:xfrm>
            <a:off x="472428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cottish Room</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ttish Room is modeled after a gentry style home. In this room you see the national symbol, the thistle, which helped the Scottish win the war. The room has many small items that signify its independence.</a:t>
            </a:r>
            <a:endParaRPr b="0" lang="en-US" sz="2400" spc="-1" strike="noStrike">
              <a:solidFill>
                <a:srgbClr val="000000"/>
              </a:solidFill>
              <a:latin typeface="Arial"/>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om is greatly decorated with many statues and decorative cabinets. On the wall are many famous authors, for example people who wrote Peter Pan and Treasure Island. The windows have flower drapes. The crests of Scottish Universities are also found in this roo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inese Room</a:t>
            </a:r>
            <a:endParaRPr b="0" lang="en-US" sz="4400" spc="-1" strike="noStrike">
              <a:solidFill>
                <a:srgbClr val="000000"/>
              </a:solidFill>
              <a:latin typeface="Arial"/>
            </a:endParaRPr>
          </a:p>
        </p:txBody>
      </p:sp>
      <p:sp>
        <p:nvSpPr>
          <p:cNvPr id="4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9" descr="http://upload.wikimedia.org/wikipedia/commons/thumb/1/1e/ChineseNationalityRoomPitt.jpg/300px-ChineseNationalityRoomPitt.jpg"/>
          <p:cNvPicPr/>
          <p:nvPr/>
        </p:nvPicPr>
        <p:blipFill>
          <a:blip r:embed="rId1"/>
          <a:stretch/>
        </p:blipFill>
        <p:spPr>
          <a:xfrm>
            <a:off x="4648320" y="1371600"/>
            <a:ext cx="4038480" cy="2286000"/>
          </a:xfrm>
          <a:prstGeom prst="rect">
            <a:avLst/>
          </a:prstGeom>
          <a:ln w="0">
            <a:noFill/>
          </a:ln>
        </p:spPr>
      </p:pic>
      <p:pic>
        <p:nvPicPr>
          <p:cNvPr id="48" name="Picture 11" descr="http://farm4.static.flickr.com/3376/3265765971_0e65f22f98.jpg"/>
          <p:cNvPicPr/>
          <p:nvPr/>
        </p:nvPicPr>
        <p:blipFill>
          <a:blip r:embed="rId2"/>
          <a:stretch/>
        </p:blipFill>
        <p:spPr>
          <a:xfrm>
            <a:off x="4648320" y="3809880"/>
            <a:ext cx="4038480" cy="2514600"/>
          </a:xfrm>
          <a:prstGeom prst="rect">
            <a:avLst/>
          </a:prstGeom>
          <a:ln w="0">
            <a:noFill/>
          </a:ln>
        </p:spPr>
      </p:pic>
      <p:pic>
        <p:nvPicPr>
          <p:cNvPr id="49" name="Picture 13" descr="http://media-cdn.tripadvisor.com/media/photo-s/01/21/8a/a7/chinese-room-detail.jpg"/>
          <p:cNvPicPr/>
          <p:nvPr/>
        </p:nvPicPr>
        <p:blipFill>
          <a:blip r:embed="rId3"/>
          <a:stretch/>
        </p:blipFill>
        <p:spPr>
          <a:xfrm>
            <a:off x="457200" y="1371600"/>
            <a:ext cx="4038480" cy="495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wedish Room</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10" descr="http://upload.wikimedia.org/wikipedia/commons/thumb/c/c0/Swedish_Room_-_Pitt_-_IMG_0474.jpg/300px-Swedish_Room_-_Pitt_-_IMG_0474.jpg"/>
          <p:cNvPicPr/>
          <p:nvPr/>
        </p:nvPicPr>
        <p:blipFill>
          <a:blip r:embed="rId1"/>
          <a:stretch/>
        </p:blipFill>
        <p:spPr>
          <a:xfrm>
            <a:off x="1676520" y="1600200"/>
            <a:ext cx="6019560" cy="451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wedish Room</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oom is modeled after a typical famer’s home. Since the weather in Sweden is cold, the fire place and the slanted ceiling keep the room warm. The walls are made of 200 year old brick and are, by tradition, covered with white-wash.</a:t>
            </a:r>
            <a:endParaRPr b="0" lang="en-US" sz="2400" spc="-1" strike="noStrike">
              <a:solidFill>
                <a:srgbClr val="000000"/>
              </a:solidFill>
              <a:latin typeface="Arial"/>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room is modeled after a country cottage, the murals are painted with the 18</a:t>
            </a:r>
            <a:r>
              <a:rPr b="0" lang="en-US" sz="2400" spc="-1" strike="noStrike" baseline="30000">
                <a:solidFill>
                  <a:srgbClr val="000000"/>
                </a:solidFill>
                <a:latin typeface="Arial"/>
              </a:rPr>
              <a:t>th</a:t>
            </a:r>
            <a:r>
              <a:rPr b="0" lang="en-US" sz="2400" spc="-1" strike="noStrike">
                <a:solidFill>
                  <a:srgbClr val="000000"/>
                </a:solidFill>
                <a:latin typeface="Arial"/>
              </a:rPr>
              <a:t> century artist style. The ceiling has many colorful paintings, with a lot of purposeful mistakes. On the back wall has a painting of the 3 wise men on it, giving the room a religious aspe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sk.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flickr.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germany.inf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gougo.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tripadvisor.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n.wikipedia.or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t>
            </a:r>
            <a:r>
              <a:rPr b="0" lang="en-US" sz="1600" spc="-1" strike="noStrike">
                <a:solidFill>
                  <a:srgbClr val="000000"/>
                </a:solidFill>
                <a:latin typeface="Arial"/>
              </a:rPr>
              <a:t>(Includes information from tour of room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pitt.edu/~natroom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inese Room</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nese room is very decorated. On the ceiling are many red and gold designs, corresponding with the rest of the room. In the center of the ceiling, right above the table is 5 clawed dragon. Also, at the door, there are two laughing lions, which resemble good luck. </a:t>
            </a:r>
            <a:endParaRPr b="0" lang="en-US" sz="24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lso heroes and important educational heroes written on the wall. Confucius is portrayed on the back wall in stone. Buddhism symbols are also found on the chalkboard do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zech Republic Room</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8" descr="http://www.igougo.com/photos/journal/132x132/RoomsCzech.jpg"/>
          <p:cNvPicPr/>
          <p:nvPr/>
        </p:nvPicPr>
        <p:blipFill>
          <a:blip r:embed="rId1"/>
          <a:stretch/>
        </p:blipFill>
        <p:spPr>
          <a:xfrm>
            <a:off x="2286000" y="1600200"/>
            <a:ext cx="472284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zech Republic Roo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zechoslovakia room represents the nation’s love for education, nature, and their good leaders. Their good leaders are shown on the ceiling above the blackboard.</a:t>
            </a:r>
            <a:endParaRPr b="0" lang="en-US" sz="28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lass case shows different examples of Bohemian crystal, historical photographs, and embroidery. This is to show the nation’s cul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nch Room</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8" descr="http://farm6.static.flickr.com/5127/5373834424_dd8524101f.jpg"/>
          <p:cNvPicPr/>
          <p:nvPr/>
        </p:nvPicPr>
        <p:blipFill>
          <a:blip r:embed="rId1"/>
          <a:stretch/>
        </p:blipFill>
        <p:spPr>
          <a:xfrm>
            <a:off x="1066680" y="1600200"/>
            <a:ext cx="7162920" cy="45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Roo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17</a:t>
            </a:r>
            <a:r>
              <a:rPr b="0" lang="en-US" sz="2400" spc="-1" strike="noStrike" baseline="30000">
                <a:solidFill>
                  <a:srgbClr val="000000"/>
                </a:solidFill>
                <a:latin typeface="Arial"/>
              </a:rPr>
              <a:t>th</a:t>
            </a:r>
            <a:r>
              <a:rPr b="0" lang="en-US" sz="2400" spc="-1" strike="noStrike">
                <a:solidFill>
                  <a:srgbClr val="000000"/>
                </a:solidFill>
                <a:latin typeface="Arial"/>
              </a:rPr>
              <a:t> century Napoleon style room. There are symbols of the countries “conquered” by Napoleon: Greece, Egypt and Italy. Not only is the room show its countries history, but it also is well designed.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om has a lot of golden designs in it. But not only are the small designs gold, but also the window’s drapes. A chandelier hangs from the ceiling. On the back of the room is a picture of a unicorn. The tale of the unicorn is: If a hunter catches a unicorn, he will get the maiden of his dream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erman Room</a:t>
            </a:r>
            <a:endParaRPr b="0" lang="en-US"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9" descr="http://www.germany.info/contentblob/2388882/Galeriebild_gross/492921/Cathedral_Learning_B.jpg"/>
          <p:cNvPicPr/>
          <p:nvPr/>
        </p:nvPicPr>
        <p:blipFill>
          <a:blip r:embed="rId1"/>
          <a:stretch/>
        </p:blipFill>
        <p:spPr>
          <a:xfrm>
            <a:off x="4648320" y="1600200"/>
            <a:ext cx="4038480" cy="2209680"/>
          </a:xfrm>
          <a:prstGeom prst="rect">
            <a:avLst/>
          </a:prstGeom>
          <a:ln w="0">
            <a:noFill/>
          </a:ln>
        </p:spPr>
      </p:pic>
      <p:pic>
        <p:nvPicPr>
          <p:cNvPr id="70" name="Picture 11" descr="http://rpmedia.ask.com/ts?u=/wikipedia/commons/thumb/c/c6/GermanNationalityRoomCoL.jpg/125px-GermanNationalityRoomCoL.jpg"/>
          <p:cNvPicPr/>
          <p:nvPr/>
        </p:nvPicPr>
        <p:blipFill>
          <a:blip r:embed="rId2"/>
          <a:stretch/>
        </p:blipFill>
        <p:spPr>
          <a:xfrm>
            <a:off x="457200" y="1600200"/>
            <a:ext cx="4038480" cy="4572000"/>
          </a:xfrm>
          <a:prstGeom prst="rect">
            <a:avLst/>
          </a:prstGeom>
          <a:ln w="0">
            <a:noFill/>
          </a:ln>
        </p:spPr>
      </p:pic>
      <p:pic>
        <p:nvPicPr>
          <p:cNvPr id="71" name="Picture 13" descr="http://images.ookaboo.com/photo/s/German_Room_Pitt_IMG_0532_s.jpg"/>
          <p:cNvPicPr/>
          <p:nvPr/>
        </p:nvPicPr>
        <p:blipFill>
          <a:blip r:embed="rId3"/>
          <a:stretch/>
        </p:blipFill>
        <p:spPr>
          <a:xfrm>
            <a:off x="4648320" y="3962520"/>
            <a:ext cx="403848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erman Room</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rman Room is made up different aspects of German culture. Not only is it shown academically with the University Crests on the Wall, but their culture is also shown in the room.  </a:t>
            </a: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walls of the room are the names of famous German composers including Bach and Brahms are carved onto the wall. Also, the famous Grimm’s Brothers fairy tales can be found on the stain glass window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11:25:22Z</dcterms:created>
  <dc:creator>Alexandra Spallek</dc:creator>
  <dc:description/>
  <dc:language>en-US</dc:language>
  <cp:lastModifiedBy>WAC</cp:lastModifiedBy>
  <dcterms:modified xsi:type="dcterms:W3CDTF">2011-05-19T17:32:31Z</dcterms:modified>
  <cp:revision>9</cp:revision>
  <dc:subject/>
  <dc:title>Nationality Rooms </dc:title>
</cp:coreProperties>
</file>